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1997-82D4-4B0B-826D-33664708B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of a pair of tennis shoes and a t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of a pair of tennis shoes and a t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of a pair of tennis shoes and a t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of heads sticking out the windows of a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of a pair of tennis shoes and a t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of a pair of tennis shoes and a t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of a pair of tennis shoes and a t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of a pair of tennis shoes and a t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31A-AA96-4DC8-8421-13C050D7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DE7-24F7-49C9-BD08-486C1D55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92A-EE6D-42E4-9E47-9E433EA9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628-F98B-4258-930F-8965628D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3D0-F348-4ABC-B369-1DA8EA48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90A-7837-4BF9-8BDE-5631CCA5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0B9-EDF2-47BE-80D9-5DDE4542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6AC-EBDD-44FD-8880-CA78A793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F29-E2D7-4CC8-9F38-EAE7C012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044-1540-4DDD-A4AD-F2D5FCAF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39D-2678-4FE4-A04F-C89C6BE0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3FA7-6366-4E24-9D9F-1677B4D3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0E46-9748-477C-BB23-69E900B41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way we g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Kathy S. White &amp; Joan Kalw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Œ2001 Kathy S. White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kes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708800" cy="3979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we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71600" y="4419720"/>
            <a:ext cx="1778040" cy="1523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666880" cy="2254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orcycles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0" y="2673360"/>
            <a:ext cx="5105520" cy="418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we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1778040" cy="1524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562720" y="3733920"/>
            <a:ext cx="2666880" cy="2253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e cars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25780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we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177804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19920" y="4114800"/>
            <a:ext cx="26668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es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we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952880" cy="424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179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09680" y="1600200"/>
            <a:ext cx="6324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410440" cy="4210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we g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kids walk and some kids ro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1600" y="4419720"/>
            <a:ext cx="177804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67280" y="3733920"/>
            <a:ext cx="2667240" cy="2253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s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181480" cy="4415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we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177804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095880" y="3809880"/>
            <a:ext cx="2667240" cy="2254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cks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715000" cy="3998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we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1778040" cy="1524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43600" y="3962520"/>
            <a:ext cx="2666880" cy="2253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elchairs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8280" y="2297160"/>
            <a:ext cx="4606920" cy="4560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we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1778040" cy="1523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715000" y="3809880"/>
            <a:ext cx="2666880" cy="2254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20:03:09Z</dcterms:created>
  <dc:creator>School District of Janesville</dc:creator>
  <dc:description/>
  <dc:language>en-US</dc:language>
  <cp:lastModifiedBy> </cp:lastModifiedBy>
  <dcterms:modified xsi:type="dcterms:W3CDTF">2005-01-27T19:42:10Z</dcterms:modified>
  <cp:revision>11</cp:revision>
  <dc:subject/>
  <dc:title>Away we go</dc:title>
</cp:coreProperties>
</file>